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8D8B7-3E30-4B10-AE5D-D783E8180D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1A0F8-8A8E-4025-8751-5FE9A90D8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Modify our second task  from yesterday so that it is now an open tas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ork in table groups. Post on chart paper. Gallery walk af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FA1B7-DF35-4ADB-9ED1-FFDE5ECFC2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4E718-2185-42AB-BDF0-107D24A7A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0BDF9-67DA-4421-A962-023C4BF8E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DB4BE-78CA-45D8-B9FF-7778D1DC6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4A07F-6073-4C9F-B203-273786B53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F9AA9-CF19-4A28-8A68-32DC57A975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A0B6A-253E-4B49-9892-3518FC0D7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A061-FE37-4159-985D-FB6DD8453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F0E0-CDAE-4448-97EE-8A323E632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9633-2489-41EB-B461-D125E6373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1775-F81A-4D78-A827-D82B409D3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29C42-2353-4EB3-9747-F845E909A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D16F0-873C-4CA9-B861-4D0B9ED74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21761-7981-4EAE-BEEB-01D1DA180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B2ABC-0638-46FF-9251-95F51E753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0B70F-DC4A-4ACD-943D-756B499E7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4EBB5-86F8-484A-A075-6DDD0401F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ECB44-CD00-4CCF-9232-BA07E016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F620-795F-43F3-BB2A-7D056157E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E8316-24D7-4AA8-97C7-FB29EAAD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B0EDC-425A-4A8C-9277-E0171B207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4D8D1-ED40-4593-AEC8-09A7CE059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63EDB-1A30-4AE2-85BB-AE28FFA6B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AD00F-9E29-426A-91ED-09F1099D8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72E4-CF91-421C-AACB-6C548C793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3C7B-9FBA-4295-99D3-D74837078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D63C-6D25-4706-9DD0-4C9608AE8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2CB1-43DC-441B-A2EC-945CDD367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79ED-4AE2-46AE-92FB-A995972C9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7526-0785-448F-9768-6B58FF6B4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26F4-EABB-4703-BEF2-0FD80BD35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04339-D26B-4610-B9BC-61F9A307CA63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360360" y="369720"/>
            <a:ext cx="6840720" cy="142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199b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2" descr=""/>
          <p:cNvPicPr/>
          <p:nvPr/>
        </p:nvPicPr>
        <p:blipFill>
          <a:blip r:embed="rId2"/>
          <a:stretch/>
        </p:blipFill>
        <p:spPr>
          <a:xfrm>
            <a:off x="7343640" y="-27000"/>
            <a:ext cx="1441440" cy="118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9A667-8367-493B-BF34-2A174AAA0833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2209680" y="228600"/>
            <a:ext cx="4859280" cy="39844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1"/>
          <p:cNvSpPr/>
          <p:nvPr/>
        </p:nvSpPr>
        <p:spPr>
          <a:xfrm>
            <a:off x="533520" y="4343400"/>
            <a:ext cx="8229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Book Antiqua"/>
              </a:rPr>
              <a:t>Proportional Reasoning: </a:t>
            </a:r>
            <a:r>
              <a:rPr b="0" lang="en-US" sz="3600" spc="-1" strike="noStrike">
                <a:solidFill>
                  <a:srgbClr val="0d469b"/>
                </a:solidFill>
                <a:latin typeface="Book Antiqua"/>
              </a:rPr>
              <a:t>Focused on Proportional Thinking</a:t>
            </a:r>
            <a:r>
              <a:rPr b="0" lang="en-US" sz="4800" spc="-1" strike="noStrike">
                <a:solidFill>
                  <a:srgbClr val="0d469b"/>
                </a:solidFill>
                <a:latin typeface="Book Antiqua"/>
              </a:rPr>
              <a:t>  </a:t>
            </a:r>
            <a:r>
              <a:rPr b="0" lang="en-US" sz="3600" spc="-1" strike="noStrike">
                <a:solidFill>
                  <a:srgbClr val="0d469b"/>
                </a:solidFill>
                <a:latin typeface="Book Antiqua"/>
              </a:rPr>
              <a:t>Day 4</a:t>
            </a:r>
            <a:br>
              <a:rPr sz="4800"/>
            </a:br>
            <a:r>
              <a:rPr b="0" lang="en-US" sz="3600" spc="-1" strike="noStrike">
                <a:solidFill>
                  <a:srgbClr val="0d469b"/>
                </a:solidFill>
                <a:latin typeface="Book Antiqua"/>
              </a:rPr>
              <a:t>August 19, 2010</a:t>
            </a:r>
            <a:br>
              <a:rPr sz="3600"/>
            </a:br>
            <a:r>
              <a:rPr b="0" lang="en-US" sz="3600" spc="-1" strike="noStrike">
                <a:solidFill>
                  <a:srgbClr val="0d469b"/>
                </a:solidFill>
                <a:latin typeface="Book Antiqua"/>
              </a:rPr>
              <a:t>Paul Alves, Sonia Ellison &amp; Trish Stee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Failsafe Strategie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ink/Pair Sh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ich failsafe strategy did Dan Meyer use in the development of his tas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Rock/Paper/Scissor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partner play 10 rounds and track your number of wi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ot the point (# of rounds, # of wi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 the point (0,0) with your point using a straight 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248520" y="44197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59436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400800" y="60958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# of rou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0" y="49528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# of wi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200400" y="4876920"/>
            <a:ext cx="1457280" cy="6760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057400" y="5562720"/>
            <a:ext cx="1162080" cy="7426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838080" y="4876920"/>
            <a:ext cx="86688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Rock/Paper/Scissor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win the next 10 rounds at the same rate predict your number of wins.  Plot your prediction on the grap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y another 10 rou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ot your new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 your previous point with your new point using a straight 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Rock/Paper/Scissor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id your rate of wins in the first 10 rounds compare to your second set of 10 roun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is this reflected in your grap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ould the graph look like if your percentage of wins increas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ould the graph look like if your percentage of wins decreas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Rock/Paper/Scissor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ld the angle between the horizontal axis and the line be greater than 4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this situation why or why n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209680" y="36576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09680" y="5486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2209680" y="4191120"/>
            <a:ext cx="221004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419720" y="41911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24280" y="44956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posi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819520" y="56386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jac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Ds cost $15 ea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n equation to represent the cost to purchase C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will it cost to purchase 10 C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429000" y="3124080"/>
                <a:ext cx="80640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2286000" y="33526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 =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67080" y="327672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0" y="502920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 =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Rectangle 2"/>
              <p:cNvSpPr txBox="1"/>
              <p:nvPr/>
            </p:nvSpPr>
            <p:spPr>
              <a:xfrm>
                <a:off x="3276720" y="4952880"/>
                <a:ext cx="79056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4114800" y="50292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10 cd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276720" y="5638320"/>
            <a:ext cx="76176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4952880" y="5181120"/>
            <a:ext cx="76212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Opening the task…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rip is being planned from Kingston to Toronto. By car it is a 200 km drive and by train the route is 250 km. If the car averages 90 km/h and the train averages 120 km/h, which means of travelling is faster? Show at least two solu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Cloud 3"/>
          <p:cNvSpPr/>
          <p:nvPr/>
        </p:nvSpPr>
        <p:spPr>
          <a:xfrm>
            <a:off x="5334120" y="914400"/>
            <a:ext cx="2133360" cy="8380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Little Big Leagu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/>
          <a:srcRect l="7662" t="8066" r="9866" b="17741"/>
          <a:stretch/>
        </p:blipFill>
        <p:spPr>
          <a:xfrm>
            <a:off x="1143000" y="2057400"/>
            <a:ext cx="66628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Little Big Leagu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7524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If Joe can paint a house in 3 hours and Sam can paint the same house in 5 hours, how long does it take them to do it toge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ith a partner, open up the task identified in the movie clip and identify which of the failsafe strategies you u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Trade and Solv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rade your open task with another group and solve their probl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Today’s Goal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evelop open tasks that provide opportunities for all students to complete appropriate ta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xplore the types of assessment possible with open tas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ntinue active learning/discussion regarding proporti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Let’s consolidat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these senten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What makes an open question valuable is 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I would avoid open questions when 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 A good percentage of open questions would be 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609480" y="914400"/>
            <a:ext cx="8077320" cy="5638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3"/>
          <p:cNvSpPr/>
          <p:nvPr/>
        </p:nvSpPr>
        <p:spPr>
          <a:xfrm>
            <a:off x="4648320" y="914400"/>
            <a:ext cx="0" cy="563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4"/>
          <p:cNvSpPr/>
          <p:nvPr/>
        </p:nvSpPr>
        <p:spPr>
          <a:xfrm>
            <a:off x="609480" y="373392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5"/>
          <p:cNvSpPr/>
          <p:nvPr/>
        </p:nvSpPr>
        <p:spPr>
          <a:xfrm>
            <a:off x="3352680" y="3276720"/>
            <a:ext cx="2590920" cy="9144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685800" y="9907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685800" y="3809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5715000" y="9907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ts/Characteristic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6705720" y="3809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 Examp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3733920" y="34290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portional Reason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3825720" cy="45720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648320" y="1752480"/>
            <a:ext cx="40384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g Ide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hematical Proce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uctional Strateg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uccess Criteria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Minds On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high is the Leaning Tower of Pis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leaning-tower-of-pisa.jpg"/>
          <p:cNvPicPr/>
          <p:nvPr/>
        </p:nvPicPr>
        <p:blipFill>
          <a:blip r:embed="rId1"/>
          <a:stretch/>
        </p:blipFill>
        <p:spPr>
          <a:xfrm>
            <a:off x="2057400" y="2514600"/>
            <a:ext cx="5105520" cy="4030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Station to Station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Lesson goal: Determine the measure of an inaccessible height or unknown dimension using proportional reaso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Station to Station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hoose three out of the five activi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: How f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B: How high using Shadow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: How high using a Metre Stic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: How high using a Mirr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: How high using a Clinome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Station to Station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 u="sng">
                <a:solidFill>
                  <a:srgbClr val="000000"/>
                </a:solidFill>
                <a:uFillTx/>
                <a:latin typeface="Arial"/>
              </a:rPr>
              <a:t>Consolidating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f you were to measure the height of a light sticking out from a post, which method would you use? Wh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317040" y="4419360"/>
            <a:ext cx="2170440" cy="1078200"/>
            <a:chOff x="3317040" y="4419360"/>
            <a:chExt cx="2170440" cy="1078200"/>
          </a:xfrm>
        </p:grpSpPr>
        <p:sp>
          <p:nvSpPr>
            <p:cNvPr id="107" name=""/>
            <p:cNvSpPr/>
            <p:nvPr/>
          </p:nvSpPr>
          <p:spPr>
            <a:xfrm>
              <a:off x="3317040" y="5497560"/>
              <a:ext cx="1933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4079160" y="4419360"/>
              <a:ext cx="0" cy="1058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079160" y="4513320"/>
              <a:ext cx="295560" cy="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336920" y="4438080"/>
              <a:ext cx="246960" cy="1684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 flipV="1">
              <a:off x="4583880" y="4578840"/>
              <a:ext cx="303840" cy="20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08080" y="4719960"/>
              <a:ext cx="779400" cy="23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LIGHT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Whole Class Discussion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was the task “open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was challenging about the tas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type of assessment (for/of/as) opportunities does this task provi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could you collect the assessment inform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Minds On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rcRect l="3503" t="32549" r="34275" b="22347"/>
          <a:stretch/>
        </p:blipFill>
        <p:spPr>
          <a:xfrm>
            <a:off x="609480" y="1828800"/>
            <a:ext cx="78487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8:09:47Z</dcterms:created>
  <dc:creator>PSteele</dc:creator>
  <dc:description/>
  <dc:language>en-US</dc:language>
  <cp:lastModifiedBy>PSteele</cp:lastModifiedBy>
  <dcterms:modified xsi:type="dcterms:W3CDTF">2010-08-19T15:51:47Z</dcterms:modified>
  <cp:revision>199</cp:revision>
  <dc:subject/>
  <dc:title>Slide 1</dc:title>
</cp:coreProperties>
</file>